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2F5A8-6F33-431E-B3AE-07369C6797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21CDF-419A-42F2-893A-C6CEF804A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3C4E9-31E6-4B0A-A560-9B9D70C3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9431A-0A19-4947-A62B-E08DB909DD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AFEC2-0B88-4DE4-9483-A671F0ACE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4DB65-161B-4B81-9004-2B23EA1B9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21012-BBF0-46E6-BBAC-A2E7B2C2B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F97AE-1DEF-4074-84BC-E7AA820C2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4427A-B86C-4D26-A4FF-84101A4B9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5B0B6-5DA4-4199-937E-0C4B3E4F7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77240-74CA-4DE6-B6B5-999AC7667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5BADA-536D-47B3-93AC-E6F2D3D52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F004A-33CB-42E7-B5EF-50EF2CB0187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20500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水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素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冬眠低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过度换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施行手术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疝的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键在于早期发现和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者入院后即给予降压、降颅压等治疗。入院后第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患者出现烦躁不安、频繁呕吐、血压升高、脉搏呼吸缓慢，双侧瞳孔不等大，对光反射迟钝，呈浅昏迷状态，立即行颅骨钻孔血肿穿刺引流术，术后给予降压、降颅压、预防感染、脑保护、营养支持等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可能出现了什么问题？为防止颅内压升高应加强哪些护理措施？②颅骨钻孔血肿穿刺引流术后的护理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组织灌注量改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脑血流量持续增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颅内压增高引起剧烈呕吐及应用脱水剂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意识障碍、视力障碍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疝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脑疝形成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当限制入液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防止颅内压骤然升高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剧烈咳嗽和便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及时控制癫痫发作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躁动的处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过度换气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冬眠低温疗法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温环境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冬眠疗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观察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慢复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室引流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引流通畅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观察引流液的量、颜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室引流速度的调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室持续引流中的故障及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并发症的监护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的拔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脊液分流术后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疝急救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意识、瞳孔、呼吸、心搏的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紧急作好术前特殊检查及术前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腔内容物体积增加如脑组织水肿、脑充血和脑积水，颅内出现异常如血肿、肿瘤和脓肿，颅腔容积变小如狭颅畸形、广泛的颅骨凹陷性骨折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头痛、呕吐、视神经盘水肿为颅内压增高三主征。注意脑疝迹象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除病因是最理想和最有效的治疗方法。非手术对症治疗包括脱水治疗、激素治疗、过度通气、冬眠低温疗法；手术治疗包括开颅切除病变组织、颅骨切除术、建立脑脊液引流系统等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生命体征、神志、瞳孔及肢体运动改变；避免引起颅内压急骤升高的因素；做好脑室引流术的护理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颅内压增高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颅内压增高及脑疝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颅内压增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主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归纳颅内压增高患者的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颅内压增高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“反复头痛、呕吐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余，伴视物模糊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”入院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前无明显诱因出现双额部胀痛，在劳累或情绪激动时更明显，自服止痛药稍有缓解，偶伴有呕吐，严重时呈喷射状，一直未予检查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前自觉视力明显减弱，伴注视上方物体稍困难，头痛、呕吐等症状较前剧烈，入院检查见双侧视神经盘水肿，头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见颅内松果体区有一病变，脑积水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作性问题是什么？该患者非手术治疗的护理措施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自诉反复头痛，存在“疼痛  与颅内压增高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视物模糊，存在“有受伤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视力障碍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患者有呕吐，严重时呈喷射状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体液不足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颅内压增高引起剧烈呕吐有关”；因脑积水引起颅内压增高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脑疝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措施：休息和体位（抬高床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；保持呼吸道通畅、吸氧；严密观察生命体征、意识状态、瞳孔和神经系统病征，警惕脑疝发生；控制液体入量；防止颅内压骤然升高；遵医嘱用药并观察效果；按医嘱给予冬眠低温治疗；讲解疾病知识，给予心理支持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下列不是颅内压增高者的呕吐特点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为喷射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多在头痛剧烈时出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与饮食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为严重颅内高压唯一早期症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幕下肿瘤者发生率较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脑疝致命的主要原因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大脑皮质运动区广泛受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血管广泛受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脑受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干受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脊液循环严重障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颅内压增高三主征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压升高、脉缓有力、呼吸深慢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眩晕、呕吐、共济失调</a:t>
            </a:r>
            <a:br>
              <a:rPr sz="3600"/>
            </a:b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头痛、呕吐、视神经盘水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头痛、颈项强直、凯尔尼格征阳性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昏迷、一侧瞳孔散大、对侧肢体痉挛性瘫痪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对颅内高压患者处理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密切观察病情变化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出入量平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排便通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呼吸不畅可气管切开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用冰帽降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颅脑损伤患者取床头抬高卧位的主要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轻头晕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轻头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轻脑水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少呕吐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改善呼吸状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脑水肿患者行冬眠低温疗法，物理降温时维持肛温在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2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2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2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3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3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C    2. D    3. C    4. B    5. C    6. 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(intracranial pressur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ICP)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是指颅腔内容物对颅腔壁所产生的压力，通常以侧卧位时腰段脊髓蛛网膜下腔穿刺所测得的脑脊液压为代表。成人的正常颅内压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0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，儿童的正常颅内压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0m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79280" y="1371240"/>
            <a:ext cx="885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intracranial hypertensio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神经外科常见临床病理综合征，是颅脑损伤、脑肿瘤、脑出血、脑积水和颅内炎症等疾病引起颅腔内容物体积增加，导致颅内压持续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0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以上，并出现头痛、呕吐、视神经盘水肿等相应的综合征，称为颅内压增高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6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因“眩晕、左侧肢体活动无力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”就诊。患者既往高血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未规律服药，于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前与儿子发生争执，出现头晕、左侧肢体活动无力，伴恶心、呕吐，为喷射性，呕吐物为胃内容物，被家人送入急诊，急诊检查头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示右侧基底节区出血，出血量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血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70/12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体温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6.5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双侧瞳孔等大等圆，直径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.5m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以高血压脑出血收入院治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的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增高：头痛、呕吐、视神经盘水肿是颅内压增高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三主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视乳头盘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疝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脑幕切迹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枕骨大孔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5219640" y="1125360"/>
            <a:ext cx="3745080" cy="49960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7"/>
          <p:cNvSpPr/>
          <p:nvPr/>
        </p:nvSpPr>
        <p:spPr>
          <a:xfrm>
            <a:off x="5219640" y="6135840"/>
            <a:ext cx="37450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46ca6"/>
                </a:solidFill>
                <a:latin typeface="Calibri"/>
                <a:ea typeface="宋体"/>
              </a:rPr>
              <a:t>图</a:t>
            </a:r>
            <a:r>
              <a:rPr b="0" lang="en-US" sz="1400" spc="-1" strike="noStrike">
                <a:solidFill>
                  <a:srgbClr val="046ca6"/>
                </a:solidFill>
                <a:latin typeface="Calibri"/>
                <a:ea typeface="宋体"/>
              </a:rPr>
              <a:t>10-3</a:t>
            </a:r>
            <a:r>
              <a:rPr b="0" lang="zh-CN" sz="1400" spc="-1" strike="noStrike">
                <a:solidFill>
                  <a:srgbClr val="046ca6"/>
                </a:solidFill>
                <a:latin typeface="Calibri"/>
                <a:ea typeface="宋体"/>
              </a:rPr>
              <a:t>一侧小脑幕切迹疝引起的典型瞳孔变化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断层扫描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及磁共振成像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血管造影或数字减影血管造影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S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摄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监护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了解引起颅内高压症的病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了解是否存在致使颅内压急剧升高的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1T12:53:20Z</dcterms:modified>
  <cp:revision>85</cp:revision>
  <dc:subject/>
  <dc:title>内科护理学</dc:title>
</cp:coreProperties>
</file>